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388F-7197-4FAE-87E8-70988938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BDF-5832-440A-96C8-ACCE9328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9CA67-E2F2-41AE-8E8B-DF07E204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185CC-454B-44B2-BDCA-F2245672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4EFBD-57B5-4E26-8DB6-9C1E527B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87748-7C43-42BD-ABD9-CEC1ACFE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21D28-6B15-467B-B04E-1177D6D2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957D8-9A3B-4D6E-B945-92D57027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E3F5C-8C4D-4314-B675-E9E3C04B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D83F4-1DE5-4DC9-93A8-2E4D6B42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B8428-6EE3-4927-A917-BF6F9BE3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6A3BA-840D-4823-9E20-C82812AB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DADB-7C2C-4149-BD63-B86BAF60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1E458-7521-46DD-AD32-2DB78152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720CD-FC17-4969-ACCF-377AC672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39DD2-EB27-4005-B909-1E7D39F1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746B4-43FA-4AEF-8F96-02D10C4C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0A7CD-19CD-4B67-9828-F6D95D60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6B243-B341-4924-B0B5-BF17BD46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89FD7-0A73-4968-9FBE-30C530C6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EF9B7-0FC5-4DFD-893E-C89CA5C0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F6367-0BC0-4D84-A811-414EE349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39F2B-C331-4335-97DA-1A8B8B5A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8DD-372D-40FC-A16F-7604F189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659F6-3D9B-4F63-B2B1-78521C12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C11DB-882D-45B5-A964-FD847707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64296-003A-4294-A3F3-CFF32652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F89B5-FBB2-49FF-A131-A4FBE5DB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B95F8-A351-406D-8FED-05798261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418CC-8C1D-4605-83FE-69EAC0D6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1D6E2-8621-43F8-ABA4-63D676ED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159B7-3409-4FBA-8AA8-DA75E367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52244-E6B9-4F76-A69B-1E582D48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B357D-235E-4307-97EE-5611CC0E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1D797-9935-4874-A7D3-B73AA8F0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E1F82-43AA-4243-A24B-8744EED1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3F950-D924-4AB1-B03C-C946A543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A49AC-BBF4-403B-8449-FB221907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1C015-CE55-43F5-B7DB-144EB59F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9F457-ECB3-49D8-A670-8F5F8A63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DBDD6-8989-4323-A682-40F7FBC5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DA697-2EDC-4F91-BBA0-0F8EC5D4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A40F6-5D11-49BB-AF92-51D497A8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83B98-6332-45D6-BD4C-BAE8E4FD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D398F-1191-44FC-AD4E-39BE0952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A83A7-A4A9-479B-8D1B-4B011066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2F889-5B70-4A21-B449-0E1E1FCB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96B95-CDAB-4142-BF6E-7FBEC611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27FF6-CB24-40D5-B1B4-043821B6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D8AB-A0B8-4DD0-879C-2456AA0C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B2A8-43E6-468C-919F-1BBF8A56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BF72-899E-4FBE-9E6A-C0A5AD9F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BB3B-F810-4AA0-BF55-687E7BAB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262F-96BD-4ADB-8ABD-DC2C21DC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25DB-EE6B-486F-8C14-637E83BE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5FE8-637C-4686-BF6B-0C1A2756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65B6-2FC8-4D9E-BE37-F567A42C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F342-0246-4F44-AAA5-8436BD61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438A-31BA-4651-9BAF-76E7DE81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972A-3BCB-433C-A881-48BFC43B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4251-0907-4247-869F-15CEB046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0109-58A8-4F3F-9D33-B8B28793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22A6-7F26-4DFB-BBEB-4AA5A644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D600B-00BC-4CF1-A747-C2CCC7FE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1C369-A5AC-427E-8F43-16F604A7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BF92A-2C38-4E53-A602-96B1DE9F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F61-588E-4BBB-8F4E-AAA35A8E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E34BC-1C00-476C-A906-9EE8CF41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E1D68-7097-42F3-96CF-A9120F0F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C1C25-A5D3-4D5E-B182-7D2E6CAD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CB7D7-A137-4D6C-A44E-EB09E707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404BB-9220-4BAC-961B-785196E1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E1F00-F0FC-4084-91BF-C1021049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E5865-242B-433E-89E5-9F15E895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845F1-1337-4A2E-9994-C52B3528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B8104-5D30-42C0-8667-26B676AD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DC394-DA55-4C3A-BB7D-1DD5555E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9879-9A46-4F89-A773-5522FCAB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EB8A5-D400-488B-9B25-8754F520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AB327-F22B-4CD0-A2CF-EF77AEDD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72108-FE9F-4732-83D6-CF14B074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145C7-F469-45DC-8C70-7B76F5ED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6CC59-73B3-4BC1-8977-B07594EB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944B9-6CD9-4248-B447-A3BC8AE4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6F130-ED7A-4ED7-9776-D878BC94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9BB36-044E-4694-B96C-3A45CEDA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BA757-4957-4A87-AAF6-96C13713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4CDF8-C27B-4680-9D9F-E13B4C59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BB9-02C8-4241-890E-9AB26591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77DF2-BAE9-4F0A-A1DF-7A1956FA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3025B-D715-4A2C-84A2-D720E171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20630-BAA1-4DC8-BE88-B6AF1D90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1A5B5-7F16-4AE2-BFFF-45F93C70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FBCE2-5379-4FFC-A305-A504CFA1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4EA75-AC7E-46DB-833D-6700B8BF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9EB47-D9EC-4997-A1CF-330583A6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22A4D-AF8E-439A-B2F9-AA0AF00F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11678-0ADC-4490-83FE-CF358494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232CD-31F5-4441-9C25-1B5AE169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DB3E-5E49-473F-A227-BA51CB39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E7EB1-662A-4DEB-9F00-134ECDCE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CEF7C-6F1F-4B0C-8395-3664F192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869CC-F836-4D8A-8778-EEA62302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6E14C-A241-499D-A22C-54950A84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50EAC-2351-4B47-AEA1-467966B9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E78BE-1FE7-418B-988F-E4CD21FB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55B20-4462-492A-9B95-A11939C2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FBC31-94FF-4E2A-BCE1-465A8C5E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8BC35-CF74-4D81-BA8D-99BADC97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7C283-919D-47F7-828B-90ED1906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41A-BD06-4129-9EE5-04C53E99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C5F68-D64D-4372-B865-D420105C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6CF19-E2BE-43E3-BECB-B8DCC049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67C40-D92B-4939-BF4B-B6D8584D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34E6F-E130-4FA1-A398-AF521B57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7E3E1-5A39-4B3F-B0AE-C5551E6B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F3020-EC84-47D6-9205-B4AC4590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81FDC-AA34-416E-90BD-2B404233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EB6B2-725D-46D3-BFAC-DA93038E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77AF9-CE61-48B9-A337-8177F8FD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D7827-989B-4E44-B9EE-FD3DDA03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98F-EB65-4B8E-9059-FD9120FA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C84AB-BC62-47A2-99E1-7BC502B2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5A050-1CAA-4D28-AA96-D8A13822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CA8BC-DBCB-4551-9F6D-793F359B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29036-8FF1-41B9-98FA-BF7D4F0F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96816-795B-41E6-AA20-423C6AD4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6A791-8ADE-445F-9F48-4C5FF053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AA003-6C8B-47A7-B108-2AA32068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17CC8-A64B-4CE7-8C4E-8BD1ACE3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25069-A9DE-4940-9156-8526D6E7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7F9D1-7A67-4CB0-BF77-3DD6934B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0E94-5CD2-4AA3-9ADA-35A5B94F6B68}" type="slidenum"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Eine Ecke des Rechtecks schneiden und abrunde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Rechtwinkliges Dreiec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Freihand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Freihand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363E-3AF8-40CC-86F9-4E342B2515FE}" type="slidenum"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95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6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7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8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99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00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8C0F-D61D-4363-A7AB-630D3ED6C817}" type="slidenum"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45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6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7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49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50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14C2-1ED0-44C4-8288-2516693A32E8}" type="slidenum"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59" name="Picture 2" descr=""/>
          <p:cNvPicPr/>
          <p:nvPr/>
        </p:nvPicPr>
        <p:blipFill>
          <a:blip r:embed="rId5"/>
          <a:stretch/>
        </p:blipFill>
        <p:spPr>
          <a:xfrm>
            <a:off x="3286080" y="5286240"/>
            <a:ext cx="2363760" cy="1125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0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1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2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4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5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3A13-40F4-4065-BB1C-EF9B3D975180}" type="slidenum"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0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1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2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4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5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1eaee"/>
                </a:solidFill>
                <a:latin typeface="Times New Roman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d1eaee"/>
                </a:solidFill>
                <a:latin typeface="Times New Roman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36A9-567F-4EC5-9C9F-A23A6972E901}" type="slidenum">
              <a:rPr b="0" lang="de-A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0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1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2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4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5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380E-F594-4A44-9601-0665582CA15E}" type="slidenum"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0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1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2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54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5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16C3-5CD8-487D-ADC9-D107DF881DF1}" type="slidenum"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0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1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2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04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05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310C-B1CB-4266-8215-9A0BC8859D19}" type="slidenum"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50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1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2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54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55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58FD-4CD9-451A-995D-C493520E65C9}" type="slidenum"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ihand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Freihand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00" name="Gruppieren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1" name="Freihand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2" name="Freihand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04" name="Freihand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405" name="Freihand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Times New Roman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2B9F-4CC1-4B72-8F30-4E1751C3BB7B}" type="slidenum">
              <a:rPr b="0" lang="de-A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Grafik 4" descr="logo-trans.png"/>
          <p:cNvPicPr/>
          <p:nvPr/>
        </p:nvPicPr>
        <p:blipFill>
          <a:blip r:embed="rId1"/>
          <a:stretch/>
        </p:blipFill>
        <p:spPr>
          <a:xfrm>
            <a:off x="142920" y="1744560"/>
            <a:ext cx="8643960" cy="24703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6000840" y="3357360"/>
            <a:ext cx="2854080" cy="571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onstantia"/>
              </a:rPr>
              <a:t>Game Descrip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Titel 6" descr=""/>
          <p:cNvPicPr/>
          <p:nvPr/>
        </p:nvPicPr>
        <p:blipFill>
          <a:blip r:embed="rId1"/>
          <a:stretch/>
        </p:blipFill>
        <p:spPr>
          <a:xfrm>
            <a:off x="2670120" y="3206880"/>
            <a:ext cx="3498840" cy="1438200"/>
          </a:xfrm>
          <a:prstGeom prst="rect">
            <a:avLst/>
          </a:prstGeom>
          <a:ln w="0">
            <a:noFill/>
          </a:ln>
        </p:spPr>
      </p:pic>
      <p:sp>
        <p:nvSpPr>
          <p:cNvPr id="634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1eaee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d1eaee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97A7-F1EB-431E-8D4C-90224D708C53}" type="slidenum">
              <a:rPr b="0" lang="de-A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Eigenschaften von Objekt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Was sind Objekt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Or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piel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Werden als Punkte auf der Karte dargestell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Besitzt einen Wirkungsberei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Kre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piel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Bezieht sich auf die Größe des Spielfeldes (min. 2m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Bezieht sich auf die Größe des Spielfeldes (min. 5m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F129-25B0-41CE-A93A-8E4A1ECE7881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Spielkar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For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Krei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Größ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Bestimmt der eingestellte Radiu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Maf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Big  Bos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Mafiosi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Aufträge (A – B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Hauptquartier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Polize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Chief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Agent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Officer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Hauptquartier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A3DC-B654-4F51-873E-3630EBF23AFC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Titel 6" descr=""/>
          <p:cNvPicPr/>
          <p:nvPr/>
        </p:nvPicPr>
        <p:blipFill>
          <a:blip r:embed="rId1"/>
          <a:stretch/>
        </p:blipFill>
        <p:spPr>
          <a:xfrm>
            <a:off x="2309760" y="2567160"/>
            <a:ext cx="4456080" cy="1431720"/>
          </a:xfrm>
          <a:prstGeom prst="rect">
            <a:avLst/>
          </a:prstGeom>
          <a:ln w="0">
            <a:noFill/>
          </a:ln>
        </p:spPr>
      </p:pic>
      <p:sp>
        <p:nvSpPr>
          <p:cNvPr id="648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1eaee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d1eaee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1642-A815-4548-9D2F-635D8A40F3C4}" type="slidenum">
              <a:rPr b="0" lang="de-A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Struktu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5349-F09A-4878-ADE9-13BE47E20D2E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55" name="Diagramm 8" descr=""/>
          <p:cNvPicPr/>
          <p:nvPr/>
        </p:nvPicPr>
        <p:blipFill>
          <a:blip r:embed="rId1"/>
          <a:stretch/>
        </p:blipFill>
        <p:spPr>
          <a:xfrm>
            <a:off x="774720" y="1517760"/>
            <a:ext cx="76500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999880" y="785880"/>
            <a:ext cx="335772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500" spc="-1" strike="noStrike">
                <a:solidFill>
                  <a:srgbClr val="04617b"/>
                </a:solidFill>
                <a:latin typeface="Calibri"/>
              </a:rPr>
              <a:t>Hauptmen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E6C2-DE81-48F1-937A-DEFE22CF210E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60" name="Inhaltsplatzhalter 9" descr="CMIYC_MainMenue.jpg"/>
          <p:cNvPicPr/>
          <p:nvPr/>
        </p:nvPicPr>
        <p:blipFill>
          <a:blip r:embed="rId1"/>
          <a:stretch/>
        </p:blipFill>
        <p:spPr>
          <a:xfrm>
            <a:off x="1785960" y="1714680"/>
            <a:ext cx="548640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500" spc="-1" strike="noStrike">
                <a:solidFill>
                  <a:srgbClr val="04617b"/>
                </a:solidFill>
                <a:latin typeface="Calibri"/>
              </a:rPr>
              <a:t>Spiel erstelle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62" name="Inhaltsplatzhalter 7" descr="CMIYC_SpielErstellen.jpg"/>
          <p:cNvPicPr/>
          <p:nvPr/>
        </p:nvPicPr>
        <p:blipFill>
          <a:blip r:embed="rId1"/>
          <a:stretch/>
        </p:blipFill>
        <p:spPr>
          <a:xfrm>
            <a:off x="1828800" y="1935000"/>
            <a:ext cx="5486400" cy="4389480"/>
          </a:xfrm>
          <a:prstGeom prst="rect">
            <a:avLst/>
          </a:prstGeom>
          <a:ln w="0">
            <a:noFill/>
          </a:ln>
        </p:spPr>
      </p:pic>
      <p:sp>
        <p:nvSpPr>
          <p:cNvPr id="663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D0F0-F4CC-4BFA-A2A7-6F027CE9C835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100" spc="-1" strike="noStrike">
                <a:solidFill>
                  <a:srgbClr val="04617b"/>
                </a:solidFill>
                <a:latin typeface="Calibri"/>
              </a:rPr>
              <a:t>Spiel beitreten</a:t>
            </a: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7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197C-026D-4246-B28F-37825B5B3904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0" name="Inhaltsplatzhalter 8" descr="CMIYC_SpielBeitreten.jpg"/>
          <p:cNvPicPr/>
          <p:nvPr/>
        </p:nvPicPr>
        <p:blipFill>
          <a:blip r:embed="rId1"/>
          <a:stretch/>
        </p:blipFill>
        <p:spPr>
          <a:xfrm>
            <a:off x="1828800" y="1935000"/>
            <a:ext cx="5486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9826-1268-4DFA-8DD1-171F2FFC4F6F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100" spc="-1" strike="noStrike">
                <a:solidFill>
                  <a:srgbClr val="04617b"/>
                </a:solidFill>
                <a:latin typeface="Calibri"/>
              </a:rPr>
              <a:t>Spiel Channel</a:t>
            </a: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75" name="Inhaltsplatzhalter 10" descr="CMIYC_WarteRaum.jpg"/>
          <p:cNvPicPr/>
          <p:nvPr/>
        </p:nvPicPr>
        <p:blipFill>
          <a:blip r:embed="rId1"/>
          <a:stretch/>
        </p:blipFill>
        <p:spPr>
          <a:xfrm>
            <a:off x="1828800" y="1935000"/>
            <a:ext cx="5486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Titel 6" descr=""/>
          <p:cNvPicPr/>
          <p:nvPr/>
        </p:nvPicPr>
        <p:blipFill>
          <a:blip r:embed="rId1"/>
          <a:stretch/>
        </p:blipFill>
        <p:spPr>
          <a:xfrm>
            <a:off x="2309760" y="2987640"/>
            <a:ext cx="4256280" cy="1157400"/>
          </a:xfrm>
          <a:prstGeom prst="rect">
            <a:avLst/>
          </a:prstGeom>
          <a:ln w="0">
            <a:noFill/>
          </a:ln>
        </p:spPr>
      </p:pic>
      <p:sp>
        <p:nvSpPr>
          <p:cNvPr id="677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1eaee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d1eaee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6856-8256-4ABD-8327-AE18504AB0BC}" type="slidenum">
              <a:rPr b="0" lang="de-A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Allgemei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Online Spiel für mobile Endgerä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Nutzt G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Reines Multiplayer Spi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Kombination au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chnitzeljag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Räuber und Genda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af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1C59-ACF7-4397-BFF0-DCCCF3A7CF99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500" spc="-1" strike="noStrike">
                <a:solidFill>
                  <a:srgbClr val="04617b"/>
                </a:solidFill>
                <a:latin typeface="Calibri"/>
              </a:rPr>
              <a:t>Spielstar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Serv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Generiert die Position der Hauptquartiere der Te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Zeichnet diese auf der Karte e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Spiel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Gehen zu ihren Hauptquartier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Polizeiche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etzt eine bestimmte Anzahl von Agents auf der Kar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Spiel begin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1354-0596-49C1-AFCF-A90A1090B431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Aufgaben der Tea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Polize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afiosi aufspüren und verhaft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Aufspüre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Sichtkontank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Meldung von Ag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Verhafte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Indem sich ein Polizist eine bestimmte Zeit im Bereich eines Mafioso aufhäl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Maf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Aufträge ausführe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Mafiosi müssen ein Objekt von A nach B transportiere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023C-EE7A-4390-AFD8-2E89FD5A77DE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Ereignis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Mafioso wird gefas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Polizei erhält Punk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afioso kann eine bestimmte Zeit lang keine Aufträge annehm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Er muss zurück zum Hauptquarti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Mafioso erfüllt einen Auftra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afia erhält Punk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E985-D9D1-4BBE-92CF-067D6CE9D10D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Titel 6" descr=""/>
          <p:cNvPicPr/>
          <p:nvPr/>
        </p:nvPicPr>
        <p:blipFill>
          <a:blip r:embed="rId1"/>
          <a:stretch/>
        </p:blipFill>
        <p:spPr>
          <a:xfrm>
            <a:off x="1779480" y="2852640"/>
            <a:ext cx="5085000" cy="1433520"/>
          </a:xfrm>
          <a:prstGeom prst="rect">
            <a:avLst/>
          </a:prstGeom>
          <a:ln w="0">
            <a:noFill/>
          </a:ln>
        </p:spPr>
      </p:pic>
      <p:sp>
        <p:nvSpPr>
          <p:cNvPr id="696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1eaee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d1eaee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3337-DE1A-41C3-9E8B-9865EEFB6A4B}" type="slidenum">
              <a:rPr b="0" lang="de-A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Spieleinstellung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Spielna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Test FH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Dauer um einen Mafioso zu fasse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1 mi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Freeztime eines Mafios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2 mi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Punkteanzah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300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Maximal Spieleranzah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6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Anzahl der Ag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Radius des Spielfeld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onstantia"/>
              </a:rPr>
              <a:t>200m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05F1-786C-4121-B118-ABB478BC1983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Big Boss erhält Auftra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Auftra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Inhal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Stehlen sie 10 Gewehre von Luigi und liefern sie die Ware bei Don Charly ab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Wer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10 Punkt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17D9-6139-438A-9CB6-786D15DC4B90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Big Boss verteilt die Aufträ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1. Auftra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Dan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And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3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3AE1-8FC2-4E9E-9346-E615C24B8AFF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Szenario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Dani und Andi holen die Ware a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Befinden sich auf dem Weg zum Übergabeo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Werden jedoch von einem Agent gesicht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Officer verfolgt si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Dani kann nicht entkommen und wird gefas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Andi entkomm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Resultat: Mission Fehlgeschlag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E7C0-9D37-4E72-9F44-05F8A13CAC3D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Karte aus Sicht der Mafios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20" name="Inhaltsplatzhalter 6" descr="CMIYC_MAP.jpg"/>
          <p:cNvPicPr/>
          <p:nvPr/>
        </p:nvPicPr>
        <p:blipFill>
          <a:blip r:embed="rId1"/>
          <a:stretch/>
        </p:blipFill>
        <p:spPr>
          <a:xfrm>
            <a:off x="1828800" y="1935000"/>
            <a:ext cx="5486400" cy="4389480"/>
          </a:xfrm>
          <a:prstGeom prst="rect">
            <a:avLst/>
          </a:prstGeom>
          <a:ln w="0">
            <a:noFill/>
          </a:ln>
        </p:spPr>
      </p:pic>
      <p:sp>
        <p:nvSpPr>
          <p:cNvPr id="721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9E20-D77C-48F5-A103-FCE6902732D3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Textfeld 7"/>
          <p:cNvSpPr/>
          <p:nvPr/>
        </p:nvSpPr>
        <p:spPr>
          <a:xfrm>
            <a:off x="5286240" y="2714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Luig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Textfeld 8"/>
          <p:cNvSpPr/>
          <p:nvPr/>
        </p:nvSpPr>
        <p:spPr>
          <a:xfrm>
            <a:off x="4214880" y="55008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Don Carl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Textfeld 9"/>
          <p:cNvSpPr/>
          <p:nvPr/>
        </p:nvSpPr>
        <p:spPr>
          <a:xfrm>
            <a:off x="4500720" y="4643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Big Bos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Textfeld 10"/>
          <p:cNvSpPr/>
          <p:nvPr/>
        </p:nvSpPr>
        <p:spPr>
          <a:xfrm>
            <a:off x="3071880" y="28576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Textfeld 11"/>
          <p:cNvSpPr/>
          <p:nvPr/>
        </p:nvSpPr>
        <p:spPr>
          <a:xfrm>
            <a:off x="4071960" y="3357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Dan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Textfeld 12"/>
          <p:cNvSpPr/>
          <p:nvPr/>
        </p:nvSpPr>
        <p:spPr>
          <a:xfrm>
            <a:off x="5429160" y="3357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And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730" name="Gerade Verbindung mit Pfeil 14"/>
          <p:cNvCxnSpPr/>
          <p:nvPr/>
        </p:nvCxnSpPr>
        <p:spPr>
          <a:xfrm flipV="1">
            <a:off x="3571560" y="2999880"/>
            <a:ext cx="1429560" cy="286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1" name="Gerade Verbindung mit Pfeil 15"/>
          <p:cNvCxnSpPr/>
          <p:nvPr/>
        </p:nvCxnSpPr>
        <p:spPr>
          <a:xfrm flipH="1">
            <a:off x="4142880" y="3071520"/>
            <a:ext cx="1286640" cy="242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Inhaltsplatzhalter 7" descr="CMIYC_MAP_v2.jpg"/>
          <p:cNvPicPr/>
          <p:nvPr/>
        </p:nvPicPr>
        <p:blipFill>
          <a:blip r:embed="rId1"/>
          <a:stretch/>
        </p:blipFill>
        <p:spPr>
          <a:xfrm>
            <a:off x="1785960" y="1928880"/>
            <a:ext cx="5486400" cy="438948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Karte aus Sicht der Polize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6980-3CB5-48AD-BD9D-86B93102BE17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Textfeld 8"/>
          <p:cNvSpPr/>
          <p:nvPr/>
        </p:nvSpPr>
        <p:spPr>
          <a:xfrm>
            <a:off x="5286240" y="27147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Textfeld 9"/>
          <p:cNvSpPr/>
          <p:nvPr/>
        </p:nvSpPr>
        <p:spPr>
          <a:xfrm>
            <a:off x="7215120" y="350028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tantia"/>
              </a:rPr>
              <a:t>Mafios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Textfeld 11"/>
          <p:cNvSpPr/>
          <p:nvPr/>
        </p:nvSpPr>
        <p:spPr>
          <a:xfrm>
            <a:off x="5857920" y="457200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Berg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Textfeld 12"/>
          <p:cNvSpPr/>
          <p:nvPr/>
        </p:nvSpPr>
        <p:spPr>
          <a:xfrm>
            <a:off x="4000680" y="50007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Chie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Flussdiagramm: Verbindungsstelle 14"/>
          <p:cNvSpPr/>
          <p:nvPr/>
        </p:nvSpPr>
        <p:spPr>
          <a:xfrm>
            <a:off x="4786200" y="3429000"/>
            <a:ext cx="928800" cy="785880"/>
          </a:xfrm>
          <a:prstGeom prst="flowChartConnector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Textfeld 10"/>
          <p:cNvSpPr/>
          <p:nvPr/>
        </p:nvSpPr>
        <p:spPr>
          <a:xfrm>
            <a:off x="7215120" y="38577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tantia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743" name="Gerade Verbindung mit Pfeil 16"/>
          <p:cNvCxnSpPr/>
          <p:nvPr/>
        </p:nvCxnSpPr>
        <p:spPr>
          <a:xfrm flipH="1" flipV="1">
            <a:off x="5428800" y="3571200"/>
            <a:ext cx="1572480" cy="143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4" name="Gerade Verbindung mit Pfeil 17"/>
          <p:cNvCxnSpPr/>
          <p:nvPr/>
        </p:nvCxnSpPr>
        <p:spPr>
          <a:xfrm flipH="1" flipV="1">
            <a:off x="5500080" y="3857040"/>
            <a:ext cx="1572120" cy="143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5" name="Gerade Verbindung mit Pfeil 19"/>
          <p:cNvCxnSpPr/>
          <p:nvPr/>
        </p:nvCxnSpPr>
        <p:spPr>
          <a:xfrm flipH="1" flipV="1">
            <a:off x="5357160" y="3999960"/>
            <a:ext cx="214920" cy="50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Voraussetzung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GPS fähiges Handy oder P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Plattforme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icrosoft .n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Internetverbindun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GP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UM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HSDP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HSUP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78EE-80C8-4D88-A664-94C00F48E2F7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Titel 6" descr=""/>
          <p:cNvPicPr/>
          <p:nvPr/>
        </p:nvPicPr>
        <p:blipFill>
          <a:blip r:embed="rId1"/>
          <a:stretch/>
        </p:blipFill>
        <p:spPr>
          <a:xfrm>
            <a:off x="23760" y="2060640"/>
            <a:ext cx="8255160" cy="2011320"/>
          </a:xfrm>
          <a:prstGeom prst="rect">
            <a:avLst/>
          </a:prstGeom>
          <a:ln w="0">
            <a:noFill/>
          </a:ln>
        </p:spPr>
      </p:pic>
      <p:sp>
        <p:nvSpPr>
          <p:cNvPr id="747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1eaee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d1eaee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F8AD-4049-473D-A352-F6CB62A0494C}" type="slidenum">
              <a:rPr b="0" lang="de-A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Geplante Umsetzu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Server – Client Prinzi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Kommunikation im Spi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Nachrichte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An einzelne Spiel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An al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0B87-EA72-4B12-8BF7-D1B33DBAEBA4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Titel 6" descr=""/>
          <p:cNvPicPr/>
          <p:nvPr/>
        </p:nvPicPr>
        <p:blipFill>
          <a:blip r:embed="rId1"/>
          <a:stretch/>
        </p:blipFill>
        <p:spPr>
          <a:xfrm>
            <a:off x="1384200" y="2567160"/>
            <a:ext cx="6345360" cy="1431720"/>
          </a:xfrm>
          <a:prstGeom prst="rect">
            <a:avLst/>
          </a:prstGeom>
          <a:ln w="0">
            <a:noFill/>
          </a:ln>
        </p:spPr>
      </p:pic>
      <p:sp>
        <p:nvSpPr>
          <p:cNvPr id="611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1eaee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d1eaee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394F-18FF-481B-9A10-5AB1D841D01F}" type="slidenum">
              <a:rPr b="0" lang="de-A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Worum geht’s bei CMIYC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2 Team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af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Führt Aufträge au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Polize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Vereitelt Aufträge der Mafi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Ziel des Spiel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Erreichung einer bestimmten Punkteanzah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69DA-F457-49C3-8C90-311EA77A4393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Titel 6" descr=""/>
          <p:cNvPicPr/>
          <p:nvPr/>
        </p:nvPicPr>
        <p:blipFill>
          <a:blip r:embed="rId1"/>
          <a:stretch/>
        </p:blipFill>
        <p:spPr>
          <a:xfrm>
            <a:off x="2951280" y="2639880"/>
            <a:ext cx="2816280" cy="1432080"/>
          </a:xfrm>
          <a:prstGeom prst="rect">
            <a:avLst/>
          </a:prstGeom>
          <a:ln w="0">
            <a:noFill/>
          </a:ln>
        </p:spPr>
      </p:pic>
      <p:sp>
        <p:nvSpPr>
          <p:cNvPr id="620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1eaee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d1eaee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9CE9-87EE-450C-A4E8-237A63540151}" type="slidenum">
              <a:rPr b="0" lang="de-A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Maf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Big Bo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Erhält Aufträge vom Serv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Vergibt Aufträge an die Mafio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Deaktiviert Agent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Mafio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Erfüllt Missionen für den Big Bo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Hauptquarti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tartpunkt der Maf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Bestandteil von Aufträg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CB0B-E046-49F8-A1C3-17533AD91858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Polize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Hauptquarti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nstantia"/>
              </a:rPr>
              <a:t>Startpunkt der Polizist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Ag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NP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Späher mit bestimmtem Überwachungsberei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Meldet Aktivitäten an die gesamte Polize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Anzahl sowie Überwachungsbereich hängen von der Größe des Spielfeldes a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Offic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Verhaftet Mafios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Chief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Setzt Ag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Kann Agents reaktivier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4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Fußzeilenplatzhalt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45c75"/>
                </a:solidFill>
                <a:latin typeface="Constantia"/>
              </a:rPr>
              <a:t>Bergmeister, Kofler, Marschni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Foliennummernplatzhalt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508E-8499-4239-903D-ABC2B2E09FA7}" type="slidenum">
              <a:rPr b="0" lang="de-A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5:39:19Z</dcterms:created>
  <dc:creator>Daniel Marschnig</dc:creator>
  <dc:description/>
  <dc:language>en-US</dc:language>
  <cp:lastModifiedBy>erlacher</cp:lastModifiedBy>
  <dcterms:modified xsi:type="dcterms:W3CDTF">2010-07-28T08:59:20Z</dcterms:modified>
  <cp:revision>95</cp:revision>
  <dc:subject/>
  <dc:title>Folie 1</dc:title>
</cp:coreProperties>
</file>